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797-D4AA-481E-90B4-F244C177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D94-C41E-4AEE-9ECA-0E1B897C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F01-96D6-44CB-9BA5-78C263CE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DA1-7F81-4B6A-B3D1-71EE5F99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A67-E8F5-45DA-91D0-AB8710AE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440-DC32-410C-A7EC-FEE825E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71F-BAC3-45E0-8ABA-F406993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CA4-6EF2-47C4-8E52-ED83150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E07-8DA2-43CF-B4B0-40807A90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3EC-EB13-49C0-AB53-C660EFF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F45-8093-412D-8965-9DA3D5D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2E5-B691-4F32-BE80-C554217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AFD-BB7B-4960-B659-775DFF26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t/imgres?imgurl=http://www.intelco.fi.it/catalog/images/televisore.gif&amp;imgrefurl=http://www.intelco.fi.it/catalog/default.php%3FcPath%3D159%26osCsid%3D7c84e4eb119ebf9f32be845ab1cb2070&amp;usg=__c9sl-becHVHhhlCHBDXlp40Yy4A=&amp;h=360&amp;w=312&amp;sz=7&amp;hl=it&amp;start=1&amp;um=1&amp;tbnid=A2NjzpXEUUClKM:&amp;tbnh=121&amp;tbnw=105&amp;prev=/images%3Fq%3Dtelevisore%26um%3D1%26hl%3Dit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images.google.it/imgres?imgurl=http://www.colorare.net/disegni/religiosi/bambino-preghiera.gif&amp;imgrefurl=http://www.colorare.net/disegni/religiosi/index.htm&amp;usg=__pGNPyPWltiz9rlyOuGVsrizI-P4=&amp;h=687&amp;w=660&amp;sz=11&amp;hl=it&amp;start=7&amp;um=1&amp;tbnid=Bu8qIxplpAuToM:&amp;tbnh=139&amp;tbnw=134&amp;prev=/images%3Fq%3Ddisegno%2Bpreghiera%26um%3D1%26hl%3Dit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it/imgres?imgurl=http://www.colorare.net/disegni/religiosi/bambino-preghiera.gif&amp;imgrefurl=http://www.colorare.net/disegni/religiosi/index.htm&amp;usg=__pGNPyPWltiz9rlyOuGVsrizI-P4=&amp;h=687&amp;w=660&amp;sz=11&amp;hl=it&amp;start=7&amp;um=1&amp;tbnid=Bu8qIxplpAuToM:&amp;tbnh=139&amp;tbnw=134&amp;prev=/images%3Fq%3Ddisegno%2Bpreghiera%26um%3D1%26hl%3Dit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92720" y="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342900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92720" y="3429000"/>
            <a:ext cx="219528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342900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01320" y="9540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Giove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55560" y="81000"/>
            <a:ext cx="64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Vener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64880" y="95400"/>
            <a:ext cx="58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Saba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6800" y="350028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Domenica 2° di Quaresi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40840" y="3500280"/>
            <a:ext cx="59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Lune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21360" y="3500280"/>
            <a:ext cx="65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Marte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70200" y="350028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Mercole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960" y="104760"/>
            <a:ext cx="76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Comic Sans MS"/>
              </a:rPr>
              <a:t>Mercoledi’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2240" y="3728880"/>
            <a:ext cx="22456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Oggi il Signore mi parla cosi’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Gesù ando’ con Pietro, Giac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e Giovanni su un alto mo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Lassu’ fu trasfigurato dava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a loro e le sue vesti divenne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splendenti come una luce radios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I tre ebbero paura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Allora venne una nube 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li coprì con la sua omb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e si udi’ una voce 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diceva: «Questi è il Figlio mi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l’amato: ascoltatelo!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Anche oggi il mio impeg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e’ quello di non man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alla santa Mes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5950080"/>
            <a:ext cx="1942920" cy="7189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84160" y="404640"/>
            <a:ext cx="205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ggi come picc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gno del mio a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er Gesu’ rinun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 guardare in tv il m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artone/program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eferi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00480" y="1954080"/>
            <a:ext cx="184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Oggi voglio pens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n modo concreto a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ersone piu’ bisogn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mettendo l’offerta 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osso nella m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catolina/salvadan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scatolina"/>
          <p:cNvPicPr/>
          <p:nvPr/>
        </p:nvPicPr>
        <p:blipFill>
          <a:blip r:embed="rId1">
            <a:grayscl/>
          </a:blip>
          <a:stretch/>
        </p:blipFill>
        <p:spPr>
          <a:xfrm>
            <a:off x="2627280" y="631800"/>
            <a:ext cx="1328760" cy="121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3240" y="383076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Oggi cerchero’ di comp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almeno una buona 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tasera scrivero’ qui so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cosa ho fatt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4788000" y="177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95640" y="3876840"/>
            <a:ext cx="2160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Oggi mi prendo un momento per riflettere su questa fras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 ”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e ciascuno possedesse soltanto quel che gli  serve per vivere e lasciasse il superfluo a chi non ha nulla, nessuno sarebbe ricco ma neanche nessuno sarebbe pover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an Basi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87640" y="5950080"/>
            <a:ext cx="649440" cy="78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700280"/>
            <a:ext cx="21956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in molte parti del mondo c’e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la guerra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ll mio impegno oggi sara’ quel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di dire, nel silenzio della mia cameretta ad occhi chius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 Padre Nostro, un’ Ave 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e un Gloria al P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affinche’ gli uomini smettano d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odiarsi ed uccidersi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6200"/>
            <a:ext cx="1276200" cy="132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88000" y="692280"/>
            <a:ext cx="21513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a bellissima storia</a:t>
            </a: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 (parte2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Passarono gli anni. Un giorno arrivarono tre boscaioli e decisero che i tronchi erano abbastanza grandi per essere tagliati. Quello che prese il primo albero disse: “</a:t>
            </a: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Lo portero’ nel mio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laboratorio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”. E l’albero’ fu felice perche’ gia’ s’immaginava forziere. Il secondo disse: </a:t>
            </a: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“Mi serviva proprio del legno cosi’ per il mio cantiere navale”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. E l’albero penso’ che davvero si realizzava il suo sogno di divenire galeone! Il terzo disse: </a:t>
            </a:r>
            <a:r>
              <a:rPr b="0" i="1" lang="it-IT" sz="1000" spc="-1" strike="noStrike">
                <a:solidFill>
                  <a:srgbClr val="000000"/>
                </a:solidFill>
                <a:latin typeface="Comic Sans MS"/>
              </a:rPr>
              <a:t>“Io lo taglio e lo metto da parte per quando mi servirà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”. E l’albero’ fu triste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4360" y="3716280"/>
            <a:ext cx="1042920" cy="108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4797360"/>
            <a:ext cx="21956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1000" spc="-1" strike="noStrike">
                <a:solidFill>
                  <a:srgbClr val="000000"/>
                </a:solidFill>
                <a:latin typeface="Comic Sans MS"/>
              </a:rPr>
              <a:t>nel mondo ci sono tanti bambini che non hanno più i genitori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ll mio impegno oggi sara’ quel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di dire, nel silenzio della mia cameretta ad occhi chius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un Padre Nostro, un’ Ave 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e un Gloria al Pad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omic Sans MS"/>
              </a:rPr>
              <a:t>affinche’ trovino presto coppie di sposi che diventino i loro nuovi papa’ e mamma, cosi’ che non si sentano piu’ so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0"/>
            <a:ext cx="2195640" cy="3429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22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9524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rcRect l="11329" t="18134" r="14958" b="16834"/>
          <a:stretch/>
        </p:blipFill>
        <p:spPr>
          <a:xfrm>
            <a:off x="4427640" y="4581360"/>
            <a:ext cx="2160360" cy="230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rcRect l="0" t="0" r="0" b="66757"/>
          <a:stretch/>
        </p:blipFill>
        <p:spPr>
          <a:xfrm>
            <a:off x="7236000" y="260280"/>
            <a:ext cx="863280" cy="48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1">
            <a:grayscl/>
          </a:blip>
          <a:stretch/>
        </p:blipFill>
        <p:spPr>
          <a:xfrm rot="13708200">
            <a:off x="8838720" y="3321720"/>
            <a:ext cx="28260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8:02:02Z</dcterms:created>
  <dc:creator>computer</dc:creator>
  <dc:description/>
  <dc:language>en-US</dc:language>
  <cp:lastModifiedBy>computer</cp:lastModifiedBy>
  <dcterms:modified xsi:type="dcterms:W3CDTF">2009-02-03T14:06:08Z</dcterms:modified>
  <cp:revision>22</cp:revision>
  <dc:subject/>
  <dc:title>Diapositiva 1</dc:title>
</cp:coreProperties>
</file>