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95DE-CE9D-46EE-B2B8-788A007F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80C6-5159-4055-8DEC-3FA2C2E5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D78D-9A7C-4CB4-89FF-32B08D6F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D275-9416-401F-86D8-A3E1EAED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B5A-3509-4B97-AC75-C749F689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3B6F-F545-41E8-A6DD-500D06E2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5C51-0D18-4AC9-8B24-55A616FA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3AC9-BDC2-46FB-B601-A329205C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9609-B5E0-4D77-853E-44520EDC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7284-A3E7-460F-B869-4F468763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B91-1531-4BF6-AB40-C6BC4A02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BA2-69AA-413D-A4F0-D6354370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89D0-E816-41C5-989D-6A52C1DA7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3480" y="34920"/>
            <a:ext cx="6924960" cy="77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4680" y="8048520"/>
            <a:ext cx="63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po aver ingrandito l’immagine stamparla su un cartonci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liarla, decorarla (o scriverci cosa si vuole) ed inf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ar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84640" y="1981080"/>
            <a:ext cx="215640" cy="1366920"/>
          </a:xfrm>
          <a:prstGeom prst="rect">
            <a:avLst/>
          </a:prstGeom>
          <a:solidFill>
            <a:srgbClr val="bbe0e3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5:09:48Z</dcterms:created>
  <dc:creator>computer</dc:creator>
  <dc:description/>
  <dc:language>en-US</dc:language>
  <cp:lastModifiedBy>computer</cp:lastModifiedBy>
  <dcterms:modified xsi:type="dcterms:W3CDTF">2009-02-03T17:07:25Z</dcterms:modified>
  <cp:revision>2</cp:revision>
  <dc:subject/>
  <dc:title>Diapositiva 1</dc:title>
</cp:coreProperties>
</file>