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7377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31C28-50B4-4478-BAC9-93CA56A1A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BA026-ED1C-40D0-88AE-366C85F97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759E2-A5D6-4E12-A902-2580992E4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4713D-1A6A-4DC8-9374-4117D4FB3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F9B02-1048-49D2-B9EE-C54E0B9FC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959FB-318E-4A8D-8E69-6D08532DB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3BB27-0184-4AEA-B467-EE10DE2C8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27BCC-2464-4863-AAF3-831BDDE70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BECC8-2502-4627-815B-041D99CDD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F747A-7C2D-413A-A978-283B4C807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E1EF4-072E-44BA-B092-52BA19610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738A6-F633-48EE-B2BF-4FC00AC4D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F2DC1-3B00-4FF0-BAD1-D6472BFE86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hyperlink" Target="http://images.google.it/imgres?imgurl=http://www.intelco.fi.it/catalog/images/televisore.gif&amp;imgrefurl=http://www.intelco.fi.it/catalog/default.php%3FcPath%3D159%26osCsid%3D7c84e4eb119ebf9f32be845ab1cb2070&amp;usg=__c9sl-becHVHhhlCHBDXlp40Yy4A=&amp;h=360&amp;w=312&amp;sz=7&amp;hl=it&amp;start=1&amp;um=1&amp;tbnid=A2NjzpXEUUClKM:&amp;tbnh=121&amp;tbnw=105&amp;prev=/images%3Fq%3Dtelevisore%26um%3D1%26hl%3Dit" TargetMode="External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hyperlink" Target="http://images.google.it/imgres?imgurl=http://www.colorare.net/disegni/religiosi/bambino-preghiera.gif&amp;imgrefurl=http://www.colorare.net/disegni/religiosi/index.htm&amp;usg=__pGNPyPWltiz9rlyOuGVsrizI-P4=&amp;h=687&amp;w=660&amp;sz=11&amp;hl=it&amp;start=7&amp;um=1&amp;tbnid=Bu8qIxplpAuToM:&amp;tbnh=139&amp;tbnw=134&amp;prev=/images%3Fq%3Ddisegno%2Bpreghiera%26um%3D1%26hl%3Dit" TargetMode="External"/><Relationship Id="rId7" Type="http://schemas.openxmlformats.org/officeDocument/2006/relationships/image" Target="../media/image5.jpeg"/><Relationship Id="rId8" Type="http://schemas.openxmlformats.org/officeDocument/2006/relationships/image" Target="../media/image6.png"/><Relationship Id="rId9" Type="http://schemas.openxmlformats.org/officeDocument/2006/relationships/image" Target="../media/image7.png"/><Relationship Id="rId10" Type="http://schemas.openxmlformats.org/officeDocument/2006/relationships/image" Target="../media/image8.jpe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14625" t="0" r="17098" b="53241"/>
          <a:stretch/>
        </p:blipFill>
        <p:spPr>
          <a:xfrm>
            <a:off x="6588000" y="3429000"/>
            <a:ext cx="1008360" cy="5763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0"/>
            <a:ext cx="2195640" cy="3429000"/>
          </a:xfrm>
          <a:prstGeom prst="rect">
            <a:avLst/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195640" y="0"/>
            <a:ext cx="2195280" cy="3429000"/>
          </a:xfrm>
          <a:prstGeom prst="rect">
            <a:avLst/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392720" y="0"/>
            <a:ext cx="2195280" cy="3429000"/>
          </a:xfrm>
          <a:prstGeom prst="rect">
            <a:avLst/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588000" y="0"/>
            <a:ext cx="2195640" cy="3429000"/>
          </a:xfrm>
          <a:prstGeom prst="rect">
            <a:avLst/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3429000"/>
            <a:ext cx="2195640" cy="3429000"/>
          </a:xfrm>
          <a:prstGeom prst="rect">
            <a:avLst/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195640" y="3429000"/>
            <a:ext cx="2195280" cy="3429000"/>
          </a:xfrm>
          <a:prstGeom prst="rect">
            <a:avLst/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392720" y="3429000"/>
            <a:ext cx="2195280" cy="3429000"/>
          </a:xfrm>
          <a:prstGeom prst="rect">
            <a:avLst/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588000" y="3429000"/>
            <a:ext cx="2195640" cy="3429000"/>
          </a:xfrm>
          <a:prstGeom prst="rect">
            <a:avLst/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541240" y="95400"/>
            <a:ext cx="1596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mic Sans MS"/>
              </a:rPr>
              <a:t>Domenica 5° di quaresim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212080" y="81000"/>
            <a:ext cx="563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Comic Sans MS"/>
              </a:rPr>
              <a:t>Lunedi’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360920" y="95400"/>
            <a:ext cx="619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Comic Sans MS"/>
              </a:rPr>
              <a:t>Martedi’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65720" y="3500280"/>
            <a:ext cx="730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Comic Sans MS"/>
              </a:rPr>
              <a:t>Mercoledi’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49840" y="3500280"/>
            <a:ext cx="603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Comic Sans MS"/>
              </a:rPr>
              <a:t>Giovedi’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150160" y="3500280"/>
            <a:ext cx="61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Comic Sans MS"/>
              </a:rPr>
              <a:t>Venerdi’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394400" y="3500280"/>
            <a:ext cx="551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mic Sans MS"/>
              </a:rPr>
              <a:t>Sabat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801360" y="104760"/>
            <a:ext cx="551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mic Sans MS"/>
              </a:rPr>
              <a:t>Sabat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268360" y="333360"/>
            <a:ext cx="2089440" cy="27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>
                <a:solidFill>
                  <a:srgbClr val="000000"/>
                </a:solidFill>
                <a:latin typeface="Comic Sans MS"/>
              </a:rPr>
              <a:t>Oggi il Signore mi parla cosi’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Comic Sans MS"/>
              </a:rPr>
              <a:t>Gesu’ disse: “ È venuta l’ora che il Figlio dell’uomo sia glorificato. In verità, in verità io vi dico: se il chicco di grano, caduto in terra, non muore, rimane solo; se invece muore, produce molto frutto. Chi ama la propria vita, la perde e chi odia la propria vita in questo mondo, la conserverà per la vita eterna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it-IT" sz="1200" spc="-1" strike="noStrike">
                <a:solidFill>
                  <a:srgbClr val="000000"/>
                </a:solidFill>
                <a:latin typeface="Comic Sans MS"/>
              </a:rPr>
              <a:t>Ancora una volta mi impegno a non mancare alla santa Mess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340000" y="2421000"/>
            <a:ext cx="1942920" cy="720720"/>
          </a:xfrm>
          <a:prstGeom prst="foldedCorner">
            <a:avLst>
              <a:gd name="adj" fmla="val 12500"/>
            </a:avLst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484160" y="3716280"/>
            <a:ext cx="20538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omic Sans MS"/>
              </a:rPr>
              <a:t>Oggi come picco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omic Sans MS"/>
              </a:rPr>
              <a:t>segno del mio amo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omic Sans MS"/>
              </a:rPr>
              <a:t>per Gesu’ rinunci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omic Sans MS"/>
              </a:rPr>
              <a:t>a guardare in tv il mi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omic Sans MS"/>
              </a:rPr>
              <a:t>cartone/programm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omic Sans MS"/>
              </a:rPr>
              <a:t>preferit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378160" y="5400720"/>
            <a:ext cx="18450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omic Sans MS"/>
              </a:rPr>
              <a:t>Oggi voglio pens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omic Sans MS"/>
              </a:rPr>
              <a:t>in modo concreto al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omic Sans MS"/>
              </a:rPr>
              <a:t>persone piu’ bisogn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omic Sans MS"/>
              </a:rPr>
              <a:t>mettendo l’offerta 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omic Sans MS"/>
              </a:rPr>
              <a:t>posso nell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omic Sans MS"/>
              </a:rPr>
              <a:t>scatolina/salvadana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scatolina"/>
          <p:cNvPicPr/>
          <p:nvPr/>
        </p:nvPicPr>
        <p:blipFill>
          <a:blip r:embed="rId2">
            <a:grayscl/>
          </a:blip>
          <a:stretch/>
        </p:blipFill>
        <p:spPr>
          <a:xfrm>
            <a:off x="2595600" y="3944880"/>
            <a:ext cx="1328760" cy="121284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6645240" y="404640"/>
            <a:ext cx="2114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omic Sans MS"/>
              </a:rPr>
              <a:t>Oggi cerchero’ di compi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omic Sans MS"/>
              </a:rPr>
              <a:t>almeno una buona azio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omic Sans MS"/>
              </a:rPr>
              <a:t>Stasera scrivero’ qui sot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omic Sans MS"/>
              </a:rPr>
              <a:t>cosa ho fatto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>
            <a:hlinkClick r:id="rId3"/>
          </p:cNvPr>
          <p:cNvPicPr/>
          <p:nvPr/>
        </p:nvPicPr>
        <p:blipFill>
          <a:blip r:embed="rId4">
            <a:grayscl/>
          </a:blip>
          <a:stretch/>
        </p:blipFill>
        <p:spPr>
          <a:xfrm>
            <a:off x="4788000" y="5229360"/>
            <a:ext cx="1368360" cy="13683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4427640" y="404640"/>
            <a:ext cx="216036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>
                <a:solidFill>
                  <a:srgbClr val="000000"/>
                </a:solidFill>
                <a:latin typeface="Comic Sans MS"/>
              </a:rPr>
              <a:t>Oggi mi prendo un momento per riflettere su questa frase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Comic Sans MS"/>
              </a:rPr>
              <a:t>Un uomo si era preoccupato tutta la vita di non commettere nulla di male e, una volta morto, arrivato davanti a Dio gli mostro’ orgoglioso le sue mani dicendo: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1" lang="it-IT" sz="1000" spc="-1" strike="noStrike">
                <a:solidFill>
                  <a:srgbClr val="000000"/>
                </a:solidFill>
                <a:latin typeface="Comic Sans MS"/>
              </a:rPr>
              <a:t>Signore, guarda come sono pulite!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Comic Sans MS"/>
              </a:rPr>
              <a:t>Ma Lui gli rispose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Comic Sans MS"/>
              </a:rPr>
              <a:t> “</a:t>
            </a:r>
            <a:r>
              <a:rPr b="1" lang="it-IT" sz="1000" spc="-1" strike="noStrike" u="sng">
                <a:solidFill>
                  <a:srgbClr val="000000"/>
                </a:solidFill>
                <a:uFillTx/>
                <a:latin typeface="Comic Sans MS"/>
              </a:rPr>
              <a:t>Si, ma sono anche vuote….!</a:t>
            </a:r>
            <a:r>
              <a:rPr b="1" lang="it-IT" sz="1000" spc="-1" strike="noStrike">
                <a:solidFill>
                  <a:srgbClr val="000000"/>
                </a:solidFill>
                <a:latin typeface="Comic Sans MS"/>
              </a:rPr>
              <a:t>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5"/>
          <a:stretch/>
        </p:blipFill>
        <p:spPr>
          <a:xfrm>
            <a:off x="5219640" y="2492280"/>
            <a:ext cx="649440" cy="78264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0" y="4797360"/>
            <a:ext cx="2195640" cy="20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000" spc="-1" strike="noStrike">
                <a:solidFill>
                  <a:srgbClr val="000000"/>
                </a:solidFill>
                <a:latin typeface="Comic Sans MS"/>
              </a:rPr>
              <a:t>…</a:t>
            </a:r>
            <a:r>
              <a:rPr b="1" i="1" lang="it-IT" sz="1000" spc="-1" strike="noStrike">
                <a:solidFill>
                  <a:srgbClr val="000000"/>
                </a:solidFill>
                <a:latin typeface="Comic Sans MS"/>
              </a:rPr>
              <a:t>spesso le persone anziane vengono abbandonati dai figli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Comic Sans MS"/>
              </a:rPr>
              <a:t>ll mio impegno oggi sara’ quell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Comic Sans MS"/>
              </a:rPr>
              <a:t>di dire, nel silenzio della mia cameretta ad occhi chiusi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Comic Sans MS"/>
              </a:rPr>
              <a:t>un Padre Nostro, un’ Ave Mar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Comic Sans MS"/>
              </a:rPr>
              <a:t>e un Gloria al Pad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Comic Sans MS"/>
              </a:rPr>
              <a:t>affinche’ queste persone capiscano che stanno sbagliando, stiano loro sempre vicini e non li lascino mai soli!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611280" y="3789360"/>
            <a:ext cx="903240" cy="9367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8874360" y="1360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8750880" y="48625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131840"/>
            <a:ext cx="215100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Comic Sans MS"/>
              </a:rPr>
              <a:t>Una bellissima storia</a:t>
            </a:r>
            <a:r>
              <a:rPr b="1" lang="it-IT" sz="1000" spc="-1" strike="noStrike">
                <a:solidFill>
                  <a:srgbClr val="000000"/>
                </a:solidFill>
                <a:latin typeface="Comic Sans MS"/>
              </a:rPr>
              <a:t> (parte5°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Comic Sans MS"/>
              </a:rPr>
              <a:t>Passo’ ancora del tempo e il terzo albero venne preso dalla catasta di legna. I suoi due pezzi furono legati insieme per crearne una pesantissima croce che fu posta sulle deboli spalle di un povero giovane. Al suo passaggio la gente lo derideva,  lo insultava, e l’albero’ si senti’ molto cattivo a provocare tutta quella sofferenza ad un uomo che doveva essere tanto buono dato che sopportava tutto in silenzio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8"/>
          <a:srcRect l="11329" t="18134" r="14958" b="16834"/>
          <a:stretch/>
        </p:blipFill>
        <p:spPr>
          <a:xfrm>
            <a:off x="6588000" y="1125360"/>
            <a:ext cx="2160720" cy="2303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9"/>
          <a:stretch/>
        </p:blipFill>
        <p:spPr>
          <a:xfrm>
            <a:off x="611280" y="311040"/>
            <a:ext cx="865080" cy="81432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6588000" y="4005360"/>
            <a:ext cx="2151360" cy="31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Comic Sans MS"/>
              </a:rPr>
              <a:t>Una bellissima storia</a:t>
            </a:r>
            <a:r>
              <a:rPr b="1" lang="it-IT" sz="1000" spc="-1" strike="noStrike">
                <a:solidFill>
                  <a:srgbClr val="000000"/>
                </a:solidFill>
                <a:latin typeface="Comic Sans MS"/>
              </a:rPr>
              <a:t> (parte6°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Comic Sans MS"/>
              </a:rPr>
              <a:t>L’uomo dovette camminare fino in cima ad un monte; li’ piantarono in terra la croce e ve lo inchiodarono sopra. </a:t>
            </a:r>
            <a:r>
              <a:rPr b="0" i="1" lang="it-IT" sz="900" spc="-1" strike="noStrike">
                <a:solidFill>
                  <a:srgbClr val="000000"/>
                </a:solidFill>
                <a:latin typeface="Comic Sans MS"/>
              </a:rPr>
              <a:t>“No, no, no! Non e’ cosi’ che volevo stare in alto!”</a:t>
            </a:r>
            <a:r>
              <a:rPr b="0" lang="it-IT" sz="900" spc="-1" strike="noStrike">
                <a:solidFill>
                  <a:srgbClr val="000000"/>
                </a:solidFill>
                <a:latin typeface="Comic Sans MS"/>
              </a:rPr>
              <a:t> penso’ l’albero </a:t>
            </a:r>
            <a:r>
              <a:rPr b="0" i="1" lang="it-IT" sz="900" spc="-1" strike="noStrike">
                <a:solidFill>
                  <a:srgbClr val="000000"/>
                </a:solidFill>
                <a:latin typeface="Comic Sans MS"/>
              </a:rPr>
              <a:t>“Io volevo che guardandomi tutti pensassero a Dio, non a tanto dolore!” </a:t>
            </a:r>
            <a:r>
              <a:rPr b="0" lang="it-IT" sz="900" spc="-1" strike="noStrike">
                <a:solidFill>
                  <a:srgbClr val="000000"/>
                </a:solidFill>
                <a:latin typeface="Comic Sans MS"/>
              </a:rPr>
              <a:t> Ma poi successe qualcosa di magnifico: l’uomo che avevano inchiodato al suo legno, tre giorni dopo la morte resuscito’ per opera di Dio! Quell’uomo era suo figlio…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900" spc="-1" strike="noStrike">
                <a:solidFill>
                  <a:srgbClr val="000000"/>
                </a:solidFill>
                <a:latin typeface="Comic Sans MS"/>
              </a:rPr>
              <a:t>Da quel giorno la croce divenne il simbolo del miracoloso evento e tutti gli uomini, in qualsiasi parte del mondo, guardando in alto verso una croce, avrebbero pensato a quanto e’ grande Dio, proprio come il terzo albero aveva sempre desiderato!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9144000" y="0"/>
            <a:ext cx="0" cy="68580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0">
            <a:grayscl/>
          </a:blip>
          <a:stretch/>
        </p:blipFill>
        <p:spPr>
          <a:xfrm rot="13708200">
            <a:off x="8838720" y="3321720"/>
            <a:ext cx="282600" cy="2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30T08:09:02Z</dcterms:created>
  <dc:creator>computer</dc:creator>
  <dc:description/>
  <dc:language>en-US</dc:language>
  <cp:lastModifiedBy>computer</cp:lastModifiedBy>
  <dcterms:modified xsi:type="dcterms:W3CDTF">2009-02-03T15:35:07Z</dcterms:modified>
  <cp:revision>17</cp:revision>
  <dc:subject/>
  <dc:title>Diapositiva 1</dc:title>
</cp:coreProperties>
</file>